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AB9-5D6F-4F93-B8EB-E9FB441B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5B0-E99B-45C5-884E-BD50F88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024-539D-4741-AA05-F79CA4E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4B4-FE79-4934-A57B-D14FBDB8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97D-5DAD-469D-9472-7D16E5E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A16-6436-4945-B97F-803D464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D08-F11D-4115-974F-03DF70C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6FD-2405-4B6E-955F-C80C89FA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837-0EC6-4698-AEC6-64770084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7F8-B4B9-4B0E-A712-0B54815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ADB-B7DB-4805-A6AB-218E2964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A6A-52B7-4EE8-95BF-7E8E6ED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8EEF-6F15-402D-A188-4F6C3D89E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sychometrica.ru/" TargetMode="External"/><Relationship Id="rId3" Type="http://schemas.openxmlformats.org/officeDocument/2006/relationships/hyperlink" Target="http://psytest.info/taxonomy/term/16/all" TargetMode="External"/><Relationship Id="rId4" Type="http://schemas.openxmlformats.org/officeDocument/2006/relationships/hyperlink" Target="http://vch.narod.ru/myprog.htm" TargetMode="External"/><Relationship Id="rId5" Type="http://schemas.openxmlformats.org/officeDocument/2006/relationships/hyperlink" Target="http://psylib.myword.ru/index.php?s" TargetMode="Externa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2998800"/>
            <a:ext cx="919944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211640" y="1268280"/>
            <a:ext cx="1008000" cy="134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867c"/>
                </a:solidFill>
                <a:latin typeface="Arial"/>
              </a:rPr>
              <a:t>Государственное автономное образовательное учреждение дополнительно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2e867c"/>
                </a:solidFill>
                <a:latin typeface="Arial"/>
              </a:rPr>
              <a:t>«ИНСТИТУТ РАЗВИТИЯ ОБРАЗОВАНИЯ РЕСПУБЛИКИ ТАТАРСТА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39640" y="3013200"/>
            <a:ext cx="8439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к организовать психолого-педагогическую поддержку обучающихся, педагогов и родителей в условиях дистанционного обучения и самоизо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39640" y="260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диагностика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– использовать огромное разнообразие  психологических тестов в компьютерном варианте (есть электронный комплект «Эффектон», или использовать ресурс  Интернет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sychometric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sytest.info/taxonomy/term/16/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ch.narod.ru/mypro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sylib.myword.ru/index.php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61960" y="290664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развивающая работа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 возможности продолжается  в дистанционном реж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этого можн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школьный/центра или службы  сайт или персональный сайт педагога-психолога, на котором выставляются расписание коррекционных занятий, задания, видео-занятия, видео-гимнастики и п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электронную почту (индивидуальные задания высылаются детям и затем проверяется их выполн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онлайн- и мобильные тренажеры, развивающие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6"/>
          <a:stretch/>
        </p:blipFill>
        <p:spPr>
          <a:xfrm>
            <a:off x="7236000" y="703440"/>
            <a:ext cx="1276200" cy="1699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7"/>
          <a:stretch/>
        </p:blipFill>
        <p:spPr>
          <a:xfrm>
            <a:off x="6732720" y="4830840"/>
            <a:ext cx="2282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731880" y="404640"/>
            <a:ext cx="830412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Организационно-методическая работа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 активно продолжается  работа по профессиональному росту, разработке методических материалов, практических продуктов для дистанционного формата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мые научные, практические и методически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fourok.ru – «Инфоурок» - ведущий образовательный портал Росс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www.rospsy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фициальный сайт «Федерации психологов образования Росс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logiston.ru/reviews/sites/socialpsy– интернет-портал МГ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ildpsy.ru – информационный-методический портал «Детская психолог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sytoys.ru – сайт методического центра МГППУ «Игры и игрушк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ospsy.ru – сайт «Российская психология», информационно-аналитический порт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mgppu.ru/ - официальный сайт Московского городского психолого–педагогическ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85720" y="1109520"/>
            <a:ext cx="4994280" cy="1870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786600" y="262080"/>
            <a:ext cx="79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можно получить психологическ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5724360" y="1098720"/>
            <a:ext cx="324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сихологическое консультирование, экстренная и кризисная психологическая помощь для детей в трудной жизненной ситуации, подростков и их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765000" y="3284640"/>
            <a:ext cx="806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айт детского телефона довери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www.telefon-doveri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главной странице сайта посетитель увидит слайдер с возможностью выбрать свою возрастную группу – «дети», «подростки» и «родители» и ознакомиться с интересующей вас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тал для родителей «Я-родител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www.ya-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десь родители найдут интересующие статьи,  видео, инфографики, возможность получить бесплатные консультации психолога и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031760" y="147600"/>
            <a:ext cx="79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ое регулирование образовательной деятельности в период дистанционного формата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7101000" y="5205240"/>
            <a:ext cx="139860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360360" y="0"/>
            <a:ext cx="6951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rcRect l="35695" t="12918" r="33786" b="9641"/>
          <a:stretch/>
        </p:blipFill>
        <p:spPr>
          <a:xfrm>
            <a:off x="568440" y="933480"/>
            <a:ext cx="4176720" cy="5546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270400" y="2492280"/>
            <a:ext cx="384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… использовать различные образовательные технологии, позволяющие обеспечить взаимодействие обучающихся и педагогических работников опосредованно (на расстоянии), в том числе с применением электронного обучения и дистанционных образовательных технологи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416480" y="134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каз Министе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свещения РФ от 17.03.2020 г. № 1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2"/>
          <a:stretch/>
        </p:blipFill>
        <p:spPr>
          <a:xfrm>
            <a:off x="5867280" y="4721400"/>
            <a:ext cx="1981440" cy="17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4673880" cy="6240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5335560" y="907920"/>
            <a:ext cx="378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етодические рекомендации Департамента государственной политики в сфере защиты прав детей Минпросвещения РФ от 27.03.2020  о усилении мер по вопросам психолого-педагогической поддержки обучающихся, родителей и педаг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87440" y="85680"/>
            <a:ext cx="569880" cy="765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4229280" y="3429000"/>
            <a:ext cx="451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рганизация психолого-педагогической поддержки образовательного процесса  в условиях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030320" y="1274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рганизация психологической поддержки родителей и детей в условиях самоизо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95360" y="2852640"/>
            <a:ext cx="3733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68360" y="333360"/>
            <a:ext cx="6969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441360" y="3602160"/>
            <a:ext cx="2928960" cy="2857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86000" y="763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взаимодействия педагогов и педагогов-психологов с обучающимися и родителями (законными представителям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57280" y="130032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становление и поддержка постоянного контакта с родителями, учителями и администрацией образовательных организац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402000" y="2459160"/>
            <a:ext cx="55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оздание единой цифровой образовательной платформы, наличие устойчивой интернет-связи, способность использовать современные информационные образовательн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276720" y="4398840"/>
            <a:ext cx="575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ведение просветительских, методических, организационных консультаций по вопросам: организации дистанционного обучения и повышение мотивации школьников к дистанционной форме, досуга детей дома,  повышение психологических адаптационн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07880" y="90360"/>
            <a:ext cx="695520" cy="9352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1692360" y="3254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поддержка предусмат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Группа 3"/>
          <p:cNvGrpSpPr/>
          <p:nvPr/>
        </p:nvGrpSpPr>
        <p:grpSpPr>
          <a:xfrm>
            <a:off x="708120" y="907920"/>
            <a:ext cx="8327880" cy="5834160"/>
            <a:chOff x="708120" y="907920"/>
            <a:chExt cx="8327880" cy="5834160"/>
          </a:xfrm>
        </p:grpSpPr>
        <p:sp>
          <p:nvSpPr>
            <p:cNvPr id="73" name="Полилиния 4"/>
            <p:cNvSpPr/>
            <p:nvPr/>
          </p:nvSpPr>
          <p:spPr>
            <a:xfrm>
              <a:off x="871560" y="907920"/>
              <a:ext cx="8164440" cy="84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использование в психологической поддержке форм и методов экстренной и кризисной психологической помощ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2"/>
            <p:cNvSpPr/>
            <p:nvPr/>
          </p:nvSpPr>
          <p:spPr>
            <a:xfrm>
              <a:off x="804960" y="1873800"/>
              <a:ext cx="816444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сихологическое консультирование родителей и близких членов семей обучающихся, направленных на развитие умений справляться с изменившимися условиями жизн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20"/>
            <p:cNvSpPr/>
            <p:nvPr/>
          </p:nvSpPr>
          <p:spPr>
            <a:xfrm>
              <a:off x="726840" y="2899800"/>
              <a:ext cx="8164440" cy="1036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информирование о возможностях получения консультативной психологической помощь, оказываемой анонимно (в том числе с использованием телефона доверия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28"/>
            <p:cNvSpPr/>
            <p:nvPr/>
          </p:nvSpPr>
          <p:spPr>
            <a:xfrm>
              <a:off x="708120" y="4063320"/>
              <a:ext cx="816444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обучение навыкам совладающего поведения всем субъектам образовательной среды, обучение навыкам саморегуляции (с учетом разных возрастных и целевых групп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39941"/>
            <p:cNvSpPr/>
            <p:nvPr/>
          </p:nvSpPr>
          <p:spPr>
            <a:xfrm>
              <a:off x="726840" y="5116320"/>
              <a:ext cx="8164440" cy="1157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876"/>
                </a:spcAft>
                <a:buClr>
                  <a:srgbClr val="006666"/>
                </a:buClr>
                <a:buFont typeface="Wingdings" charset="2"/>
                <a:buChar char="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организация в дистанционной форме групп взаимоподдержки с семьями с детьми, повышения стрессоустойчивости в домашних условиях, повышения уровня коммуникации в семь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Параллелограмм 39942" descr=""/>
            <p:cNvPicPr/>
            <p:nvPr/>
          </p:nvPicPr>
          <p:blipFill>
            <a:blip r:embed="rId3"/>
            <a:stretch/>
          </p:blipFill>
          <p:spPr>
            <a:xfrm>
              <a:off x="83520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Параллелограмм 39943" descr=""/>
            <p:cNvPicPr/>
            <p:nvPr/>
          </p:nvPicPr>
          <p:blipFill>
            <a:blip r:embed="rId4"/>
            <a:stretch/>
          </p:blipFill>
          <p:spPr>
            <a:xfrm>
              <a:off x="198720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Параллелограмм 39944" descr=""/>
            <p:cNvPicPr/>
            <p:nvPr/>
          </p:nvPicPr>
          <p:blipFill>
            <a:blip r:embed="rId5"/>
            <a:stretch/>
          </p:blipFill>
          <p:spPr>
            <a:xfrm>
              <a:off x="313956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Параллелограмм 39945" descr=""/>
            <p:cNvPicPr/>
            <p:nvPr/>
          </p:nvPicPr>
          <p:blipFill>
            <a:blip r:embed="rId6"/>
            <a:stretch/>
          </p:blipFill>
          <p:spPr>
            <a:xfrm>
              <a:off x="429156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Параллелограмм 39946" descr=""/>
            <p:cNvPicPr/>
            <p:nvPr/>
          </p:nvPicPr>
          <p:blipFill>
            <a:blip r:embed="rId7"/>
            <a:stretch/>
          </p:blipFill>
          <p:spPr>
            <a:xfrm>
              <a:off x="544392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араллелограмм 39947" descr=""/>
            <p:cNvPicPr/>
            <p:nvPr/>
          </p:nvPicPr>
          <p:blipFill>
            <a:blip r:embed="rId8"/>
            <a:stretch/>
          </p:blipFill>
          <p:spPr>
            <a:xfrm>
              <a:off x="659592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араллелограмм 39948" descr=""/>
            <p:cNvPicPr/>
            <p:nvPr/>
          </p:nvPicPr>
          <p:blipFill>
            <a:blip r:embed="rId9"/>
            <a:stretch/>
          </p:blipFill>
          <p:spPr>
            <a:xfrm>
              <a:off x="7748280" y="6493320"/>
              <a:ext cx="1158120" cy="24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3240" y="0"/>
            <a:ext cx="360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irort\Desktop\2018 год\Логотип\Победитель\логотип ИРО (разные цвета)\3.jpg"/>
          <p:cNvPicPr/>
          <p:nvPr/>
        </p:nvPicPr>
        <p:blipFill>
          <a:blip r:embed="rId2"/>
          <a:stretch/>
        </p:blipFill>
        <p:spPr>
          <a:xfrm>
            <a:off x="468360" y="333360"/>
            <a:ext cx="696960" cy="934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611280" y="1190520"/>
            <a:ext cx="614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обого внимания педагогических работников вне образовательного учреждения требуют обучающиеся группы риска, с целью предупреждения возникновения у несовершеннолетних социальной дезадаптации, проявлений аддикций и девиаций поведения,  попадание  деструктивные со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6877080" y="1914480"/>
            <a:ext cx="2127240" cy="1876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365200" y="4221000"/>
            <a:ext cx="32943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80960" y="384120"/>
            <a:ext cx="33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мочь ребенку с ОВЗ, особенно с  РАС,  перейти на дистанционный режим обуч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497480" y="889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оздание специальных условий обучения в домашней среде и организации психолого-педагогического сопровождения родителей 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293840" y="18730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темы консультирования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505560" y="2305080"/>
            <a:ext cx="207000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628920" y="2305080"/>
            <a:ext cx="45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особы адаптации домашней среды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учению  и развит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601560" y="295740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бор способов мотивации и ее поддержки к учебной деятельности у ребенка с Р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601560" y="3978360"/>
            <a:ext cx="55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ирование учебного поведения в домашни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15880" y="46846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особы преодоления нежелатель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rcRect l="71488" t="0" r="2088" b="69381"/>
          <a:stretch/>
        </p:blipFill>
        <p:spPr>
          <a:xfrm>
            <a:off x="7143840" y="4726080"/>
            <a:ext cx="1704960" cy="16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70984" t="1472" r="1583" b="69443"/>
          <a:stretch/>
        </p:blipFill>
        <p:spPr>
          <a:xfrm>
            <a:off x="3700440" y="766800"/>
            <a:ext cx="1150920" cy="958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485640" y="5099040"/>
            <a:ext cx="66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обучающихся с РАС с сохранным интеллектуальным развитием, работа по его подготовке к учебной деятельности может осуществляться  непосредственного педагогом или педагогом-психологом в режиме он-ла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0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1527120" y="47520"/>
            <a:ext cx="740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фессиональная деятельность  педагога- психолога в условиях дистанционного обучения продолжает осуществляться в рамках основных направлений деятельности, предусмотренных Профессиональным стандартом «Педагог-психолог в сфере образования», с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м электронного обучения и дистанционных образователь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5923080" y="3375000"/>
            <a:ext cx="3004920" cy="156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360360" y="692280"/>
            <a:ext cx="115236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684360" y="4653000"/>
            <a:ext cx="74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просвещение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– основной  ресурс  для реализации -  школьный сайт/или персональные сайты педагогов-психологов, на которых будут публиковаться различные материалы для всех участников образовательного процесса – обучающихся, педагогов, родителей (рекомендации, памятки, видеоконференции, вебинары, презентации, фильмы, видеосюжет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55560" y="249228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ое консультирование 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жет осуществляться в виде дистанционных консультаций при помощи телефона, электронной почты, программ Skype, Zoom, WhatsApp, онлайн-консультаций на школьном сайте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2:38:20Z</dcterms:created>
  <dc:creator>IRO RT</dc:creator>
  <dc:description/>
  <dc:language>en-US</dc:language>
  <cp:lastModifiedBy>Игорь</cp:lastModifiedBy>
  <cp:lastPrinted>2012-03-27T12:11:33Z</cp:lastPrinted>
  <dcterms:modified xsi:type="dcterms:W3CDTF">2020-04-09T07:56:34Z</dcterms:modified>
  <cp:revision>194</cp:revision>
  <dc:subject/>
  <dc:title>Слайд 1</dc:title>
</cp:coreProperties>
</file>